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64B6-0D23-4790-91D4-21BD6708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licked on the icon at the top left and revealed a save option. I saved the table as tblDon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now see the saved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in the process of creating the donation table. Notice that the key is made up of three fields for this example. I held down the shift key while I selected the three different fields and then I clicked on the primary key ic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now created the donation table. Next I will create the driv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driv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am saving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now saved the third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now want to go back and see the design view on tblDonor. I right click on it and select Design View to bring up the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want to enter data so I want to go to the Datasheet view. I can click on the view icon or click on the arrow to see the options and select Datasheet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data entered in the t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creation of a new database called DonorInfo.acc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database window that comes up next. I want to create my table in design view, so I click on create in the ribbon. The next slide shows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en clicked on design view, you will see the result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w starting to create the table by entering the first field which I am naming idno. It is a text field and it is 5 character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w entering the fields in the table.  The date of first donation is the first field that is not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 have selected Date/Time I can go down to format and pick the type – I am selecting short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w going to select double for the yrGoal – I am definitely being too optimistic because this allows for a very large number (you can check help for ranges for each op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now put in all the fields. I want to make idno the primary key, so I put the cursor next to it and click on the key ic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301-00DA-472B-AE85-03DE4571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A1C-24CB-4C1D-9F95-4FC6956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0B0-8C9A-4BDF-A4A4-A8863806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F97-06AE-436D-9F5E-4AB22C44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FCD-67DC-4846-831A-529F2808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DB5-E339-4644-8519-05897515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A0A-AF65-4BF5-B7DB-95B7A8F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496-45B2-4F5F-8350-101F74F1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1E4-EF42-4E81-AE20-3CF8957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3E4-F90F-466F-8CFA-A3D8CAB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719-0A93-4BCE-91E7-661C57A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250-B4A1-4FB1-822E-170C19CD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D694-A53C-447D-8C03-ABBB6DDE2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reating a Database in Access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lease use speaker notes for additional infor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533520"/>
            <a:ext cx="8308800" cy="599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609120" y="838080"/>
            <a:ext cx="304920" cy="24386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76720"/>
            <a:ext cx="1066680" cy="916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lick here to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380880" y="457200"/>
            <a:ext cx="830916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380880"/>
            <a:ext cx="8308800" cy="599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609480"/>
            <a:ext cx="380880" cy="9144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2813" b="0"/>
          <a:stretch/>
        </p:blipFill>
        <p:spPr>
          <a:xfrm>
            <a:off x="609480" y="304920"/>
            <a:ext cx="80805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457200"/>
            <a:ext cx="83088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304920"/>
            <a:ext cx="83088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380880" y="380880"/>
            <a:ext cx="830916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380880" y="457200"/>
            <a:ext cx="830916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457200"/>
            <a:ext cx="83088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61255"/>
          <a:stretch/>
        </p:blipFill>
        <p:spPr>
          <a:xfrm>
            <a:off x="0" y="0"/>
            <a:ext cx="8308800" cy="241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37500" b="56255"/>
          <a:stretch/>
        </p:blipFill>
        <p:spPr>
          <a:xfrm>
            <a:off x="3948120" y="2209680"/>
            <a:ext cx="5195880" cy="273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32813" b="61255"/>
          <a:stretch/>
        </p:blipFill>
        <p:spPr>
          <a:xfrm>
            <a:off x="0" y="4444920"/>
            <a:ext cx="5715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457200"/>
            <a:ext cx="8308800" cy="600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81080" y="1295280"/>
            <a:ext cx="1676520" cy="1143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3733920"/>
            <a:ext cx="2819160" cy="17524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8750" b="50005"/>
          <a:stretch/>
        </p:blipFill>
        <p:spPr>
          <a:xfrm>
            <a:off x="609480" y="1447920"/>
            <a:ext cx="7944120" cy="36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676520"/>
            <a:ext cx="53316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8750" b="50005"/>
          <a:stretch/>
        </p:blipFill>
        <p:spPr>
          <a:xfrm>
            <a:off x="762120" y="1371600"/>
            <a:ext cx="7943760" cy="366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1600200"/>
            <a:ext cx="609480" cy="12193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380880" y="380880"/>
            <a:ext cx="830916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304920" y="304920"/>
            <a:ext cx="83088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380880" y="380880"/>
            <a:ext cx="830916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380880"/>
            <a:ext cx="83088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750"/>
          <a:stretch/>
        </p:blipFill>
        <p:spPr>
          <a:xfrm>
            <a:off x="457200" y="457200"/>
            <a:ext cx="8308800" cy="599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533520"/>
            <a:ext cx="533520" cy="13716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523880"/>
            <a:ext cx="76212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30:39Z</dcterms:created>
  <dc:creator>ITS Dept.</dc:creator>
  <dc:description/>
  <dc:language>en-US</dc:language>
  <cp:lastModifiedBy>ITS Dept.</cp:lastModifiedBy>
  <dcterms:modified xsi:type="dcterms:W3CDTF">2008-01-27T22:57:04Z</dcterms:modified>
  <cp:revision>25</cp:revision>
  <dc:subject/>
  <dc:title>Creating a Database in Access 2007</dc:title>
</cp:coreProperties>
</file>